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B42-462D-48A9-95DD-7D2139F5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FA1-86B2-43A4-A1E4-C33BCD2E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30D-33F3-44C1-B6E9-BE9C134E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7F8-DE24-4944-AE20-4E1BEF38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E61C-3849-4E51-B09D-0C7300BB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2218-59F1-4162-8D43-E3993869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ED74-3128-4578-BE67-AB3F4BCB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9E76-DEDF-46E9-B140-7550C468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FCFB-D3C8-4E22-96B2-A39D99A1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21C1-B593-48EA-957D-BB638AE2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E54F-1088-45F1-A77F-8820735F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11D-A99B-4EDB-AB50-6A04D15E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4D8F-D489-413E-BDC7-F57CCF44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6F2B-8295-40FA-923A-06BD2990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7075-FA3A-4F82-87D8-6CE80239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449D-AC8B-4407-BBC6-C3B24E71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2DF5-C526-4A1E-9873-C8FD4544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AACF-C8A7-423A-BE8E-3284EBAE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4A2B0-8128-486A-B31F-B624727F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3C55-9643-49CD-9E9D-69E413E3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3327-A400-42E7-95A0-2E551706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725EC-ABB8-4143-B02F-F4303040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4FA-13D7-43E5-979B-C1391A1B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3030-5672-418A-9235-FE9F9D7B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0F93-928F-4F66-8BFC-F7FF302D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EE862-03E0-47E3-B8CE-D849F7C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400E-B4ED-4320-899F-1A146823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21681-9951-4095-9060-99F8AD62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2342-473E-4FDF-AC59-8D902E9D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1BD3-13F0-45C7-89C5-B754C1F5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F52A7-4E56-4E14-B9D4-50D9FAEB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AA86-9284-4411-BDF8-AEF24BCA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B0527-E201-4E11-97F1-BB20137B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C62-417B-4181-AE56-F8AFB220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6038B-C8AF-484A-9C87-BE538A7F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F0328-D4A1-470C-871F-23064EF1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9074F-23EF-45CA-9BE5-B8BE2D33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3E479-3107-49E1-A168-E76F04FE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A78F0-5354-4507-B284-69BD8FC0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3D78-1875-412A-AC9E-EFA22DEC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BCA7-CC4B-4F96-A609-A831D2BC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999A6-71E6-4AC9-A721-955C3C88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5A54E-83D0-4D27-84FA-AFE2600E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A2BE2-10D0-45DD-9C82-539CD75A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DAF-B8E8-4575-921B-C367DB97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A1E56-FB36-4E56-9F80-13EFB008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78FDA-C4B8-4E24-892E-8D706A64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708B3-260D-4901-AF46-5C75FD9F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61208-2FDE-4533-9C05-DC77669B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44C2E-3FFA-4453-9872-DCF7BB88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DD73F-B3C9-4AC8-9788-6FE35612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6CD09-9B14-4069-BE62-7B1C4A39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01EB4-3108-454F-87A9-083D5489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B777E-DD5A-4E92-B6C6-F79D8D79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78E4C-17A3-41B6-8B9D-DB29443D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750-BBF6-4E16-9F8D-BCD1FC32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B4813-9CAD-47BF-9200-7C08A4BB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93E91-8867-4B91-9EC7-96D393F3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511A-DAA8-4432-8F65-BE295022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6C2DC-A56F-42CC-8F30-34F1989D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C4A93-740B-476F-9123-03511ABC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7740C-4366-4E48-9223-B908FFC1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797F-BD21-4FDB-8E70-43334D57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CD408-BAB9-42B6-81F0-ACDD73B0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8C08F-412B-4594-9E37-12C5956C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C7328-22CA-4ECB-BA46-ECB12504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620-3EA7-485D-AA11-66EA7064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F6AF9-3C1C-4B96-8338-DCE8F027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4107F-4770-4C90-B6B2-12625ADD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37EB4-CED9-40DE-B300-053F5D29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E2BAF-8FD4-44AB-8D70-5D910298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C811D-7BD3-42F2-8419-98C993FD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2A687-37A1-4B00-9CB6-F9F87860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14479-B153-45F6-9D13-0634BF34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E7324-199B-4FFB-A854-A9262446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38259-0ACB-4D60-87C3-830C8534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F87EA-FBDF-4A16-A400-5BB14DDF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A62-7267-4FB4-9A66-3643098E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0F565-36C2-4088-8C6E-44F44263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70211-E34E-4DF3-8C2C-0B3603BB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73F0E-FEFD-49E6-8D71-F9BE748C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39EB2-098F-41B1-8B4F-B0F1A8E8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6322D-3DEA-499A-AC5B-10EF08EA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00B-66FC-4BDD-8D89-473139E6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9A5D-4F49-4E37-A98D-576CBDB0F75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868E-72E6-441C-AB5F-A4B084A7F9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7664-B79E-44E5-B5E3-290855791C2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AD79-B232-4279-AC40-A5A9B19911F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6D68-2D83-4A3E-A72A-510AE111B2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4E9A-C44C-488E-8C08-0C14A9EF71E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7CE9-3F79-486B-8209-B534DAE965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2080" y="2356920"/>
            <a:ext cx="5997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СОЮЗЫ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СОЧИНИТЕЛЬНЫЕ И                                  ПОДЧИНИТЕЛЬ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499920" y="5085720"/>
            <a:ext cx="564372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Вариант 1           Вариант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Когда мы вернулись в деревню, уже все спа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Веет теплый ветер, и легкий пар клубится у ре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Все время доносился отдаленный рокот, а земля под ногами вздрагива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Наталья Саввишна никак не могла понять, что Карл Иванович уеха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На левом фланге, куда звал меня Бурцев, происходило  жаркое дел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По улицам бродили только куры, да изредка выла соба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Мы пошли по лосиному следу и вскоре увидели, что дорога эта ведет в боло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Ребята поднялись на холм, где находился их лагер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Солнце уже зашло, и по низким луговым местам все затопил тума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Лесник, у которого мы остановились на ночлег, рассказал нам много нового об этих мес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(Когда)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да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д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где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которого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работаем устн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Если хочешь много знать, надо мало сп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 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 Делу время, а потехе час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 Неразумного учить, что в бездонную бочку воду ли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 Не на пользу книги читать, коль одни вершки глот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 Корень учения горек, да плод его слад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17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Вдруг среди шорохов и всплесков послышались тревожащие своей необыочностью            звуки. 2. Было похоже, что где-то совсем близко играла крошечная скрипка.3. Звуки мелодии были так слабы, что порывы ветра иногда обрывали , как паутинку, эту тонкую ниточку загадочной трели. 4. Прислушавшись, я уловил закономерную связь между скрипачом и ветром: стоило ветру немного утихнуть, как скрипка переходила на более низкие ноты, звук становился густым, и в нем отчетливо  улавливался  темб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Когда же ветер усиливался, звуки забирались все выше и выше, они становились острыми, как жало, скрипка плакала и всхлипывала.6.Наконец я установил, что звуки исходили из засыпанной раковины  на гребне песчаного холмика. 7. Я осторожно взял раковину, чтобы посмотреть повнимательнее, но ничего особенного не нашел. 8. Я положил ее на прежнее место и приготовился слушать, но раковина-музыкант молчала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охоже, что она рассердилась за то, что ее бесцеремонно потревожили, и ожидала, пока я снова уй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ите тип и стиль речи. Докажите свое мнени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Из предложений 5-8 выпишите слово (слова) с чередующейся гласной в корне сло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Из предложения 6 выпишите слово, соответствующее орфограмее правописание      приставок на з-\с-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Из предложений 1-4 выпишите действительное причастие настоящего времен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Выпишите из текста все со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Выпишите из текста все под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Из  предложений 3-5 выпишите сравн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Найдите предложение, соответствующее схеме [   (чтобы) ] и укажите его номер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Укажите кол-во грамматических основ в 4 предложени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 Забирались, полож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сход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Тревожащ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И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Что, как, когда, чтобы, п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Как паутинку, острым, как жа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.Служебня часть речи, которая служит для связи простых предложений в составе сложного, называе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ю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едло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асти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Актуализация зн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и речи в русском языке делятся на самостоятельные и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служебным частям речи относятся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ужебная часть речи, которая служит для связи однородных членов в предложении, а также простых предложений в составе сложного – это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бывают 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. Укажите неверное утвержд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делятся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чинительные и подчините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остые и состав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роизводные и непроизвод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3. Выберите ответ, где все слова в ряду- союз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ак, который, 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за, да, что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отому что, зато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4. Укажите вариант ответа, в котором все союзы сочинитель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где, зато, так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и, однако, 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то, когда, 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5. Укажите предложение, в котором союз и соединяет однородные члены (знаки препинания не расставлены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долго не могли выбраться из леса и нам пришлось задержать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а улице сегодня сильный мороз и поездка отменяе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Я вернусь и все вам расскаж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6. Укажите сложносо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не могли идти дальше, потому что заблудили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икто не знал пути домой и мы долго искали доро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Наш отряд только вчера узнал, что опасность минова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7. Укажите сложнопод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огда над тайгой спустился туман, я подплыл к бере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Воробьи взметнулись стайкой и рассыпались вда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За окном было холодно и вскоре пошел сильный дожд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берите из художественной литературы 10 предложений с сочинительными и подчинительными союз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равните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и пошел сне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воротился домой, но не в душную комнату, а в сад и с наслаждением ходил по дорожкам, осыпанным снежными хлопь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потому что пошел сн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unga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ЧИНИТЕЛЬНЫЕ и ПОДЧИНИТЕ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И, а, но, да, зато, однако, же, то-то, или, либо, не то- не то, тоже, также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д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3204"/>
                </a:solidFill>
                <a:latin typeface="Corbel"/>
              </a:rPr>
              <a:t>Что, чтобы, потому что, оттого что, по причине того что, где, когда, затем, пока, если, если бы, коль (коли), поэтому, так как, как, словно, точно, будт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По горизонту весь день слоями лежит прозрачная мгла ( ) и в ней пропадают очертания низких бер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 Вечерняя заря начинается  ( ) когда солнце уже заходит за край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Река сверкала то голубым ( ) то зеленым свет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Накануне выглянуло солнце ( ) но дороги еще не совсем просох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Сразу за шатким деревянным мостиком начинался подъем в гору ( ) с которой было видно всю окрест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Слуга вышел и объявил ( ) что лошади готов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пишем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ята очень устали, но работа была еще не законче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но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ешественники приблизились к роднику, чтобы напиться во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( чтобы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1:13:43Z</dcterms:created>
  <dc:creator>N-Book</dc:creator>
  <dc:description/>
  <dc:language>en-US</dc:language>
  <cp:lastModifiedBy>Windows 7</cp:lastModifiedBy>
  <dcterms:modified xsi:type="dcterms:W3CDTF">2013-05-07T01:36:02Z</dcterms:modified>
  <cp:revision>18</cp:revision>
  <dc:subject/>
  <dc:title>Союзы сочинительные и подчинительные</dc:title>
</cp:coreProperties>
</file>